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4 videos, each are about 2 minutes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a group of 3, then C &amp; D could be combined… Part C has lots of ch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 Create a graph, symbol, picture, word splash, poem, etc. that demonstrates the key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C5B3-1415-45B5-8D90-FBDA9DCDF8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DCABF-46B7-4B22-8567-28CF07589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8B892-2E85-413F-9447-84DAE3395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7F8ED-E894-42CB-9F78-05B24E069E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A0AF0-2C17-45DF-858C-81F3A10007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E7963-A09B-4151-9F47-016CC6B9A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B3212-CC05-402A-9528-3B09083AC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45991-44E3-42A0-9B6E-533019D64C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8FA0C-EB3A-435A-B7A1-41B2C8569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ECF2-67D6-4746-B057-6405557C1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747C4-7D47-47E0-AF1D-398BCF86B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2F7C0-0E20-4493-BACB-5BF2DA76C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795A-AE65-4526-ACB4-F540E814C0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AC86-4EB9-4A4C-816F-5C54CB7080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Algebraic Thinking Session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Responding to Student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ing to Video ~15 min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 you respond effectively to this pair of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your suggested response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C8CC-9708-4B61-9AC2-1884B18CA5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sponding with Time ~20 min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81160" indent="-241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samples of studen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41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how you will respond to this small group of students during tomorrow’s les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thematics will you focus on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ill you sa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(s) will you as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41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one representative sample to share with the whole gro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41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E04F-4CC2-4760-B41D-402F2E406F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90360"/>
            <a:ext cx="84582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ing with Time ~15 min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presentative s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verview of your response to this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E142-ADC5-44B1-A639-C44D9B3478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se groups of students are in the same class.  Now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manage differentiated responses to the individuals and small groups in our class who have different learning nee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C185-5788-4F86-B357-989800EE4E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429000" y="1600200"/>
            <a:ext cx="4572000" cy="358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feel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6877-01EA-4ACD-B8C7-0F449DCEFD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Z:\Clip Art\Road Signs\Traffic Signals\Signal 54.wmf"/>
          <p:cNvPicPr/>
          <p:nvPr/>
        </p:nvPicPr>
        <p:blipFill>
          <a:blip r:embed="rId1"/>
          <a:stretch/>
        </p:blipFill>
        <p:spPr>
          <a:xfrm>
            <a:off x="401760" y="1447920"/>
            <a:ext cx="144756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today’s s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03B7-5214-49D1-B093-209B0F50F4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Z:\Clip Art\Travel &amp; Leisure\Vacations (F - Q)\Map.wmf"/>
          <p:cNvPicPr/>
          <p:nvPr/>
        </p:nvPicPr>
        <p:blipFill>
          <a:blip r:embed="rId1"/>
          <a:stretch/>
        </p:blipFill>
        <p:spPr>
          <a:xfrm>
            <a:off x="6553080" y="195120"/>
            <a:ext cx="1227240" cy="1141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Z:\Clip Art\Travel &amp; Leisure\Vacations (F - Q)\Passport 1.wmf"/>
          <p:cNvPicPr/>
          <p:nvPr/>
        </p:nvPicPr>
        <p:blipFill>
          <a:blip r:embed="rId2"/>
          <a:stretch/>
        </p:blipFill>
        <p:spPr>
          <a:xfrm rot="21444000">
            <a:off x="7997400" y="510840"/>
            <a:ext cx="83844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lgebraic Thinking ~ Session #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characteristics of effectiv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and extend personal repertoire of question stems to be used when responding in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AF83-B450-4A33-83E3-47D1D09FD9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D311-409D-4EC5-996B-E6C96BDEBC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lgebraic Thinking ~ Session #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92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 and extend personal repertoire of strategies for responding to groups of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strategies that facilitate multiple responses within a singl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athematical thinking in a range of responses to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4794-1B4A-441F-8D0B-C34AA54532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8FE0-CD51-4BC7-96E0-41628FE424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inds On: Think/Pair/Shar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time when you received feedback that really helped you to impr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feedback look like?  Feel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de it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94D0-807D-4C3E-90A7-43440DC77D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Z:\Clip Art\Sports\Cartoons (A - Ba)\Baseball - Coach 3.wmf"/>
          <p:cNvPicPr/>
          <p:nvPr/>
        </p:nvPicPr>
        <p:blipFill>
          <a:blip r:embed="rId1"/>
          <a:stretch/>
        </p:blipFill>
        <p:spPr>
          <a:xfrm>
            <a:off x="6248520" y="4419720"/>
            <a:ext cx="2746080" cy="21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inds On: Self Assess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0772-67B5-4D6B-A591-1AF4EBE9A1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81040" y="1143000"/>
            <a:ext cx="7572240" cy="4300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Z:\Clip Art\Travel &amp; Leisure\Vacations (F - Q)\Map.wmf"/>
          <p:cNvPicPr/>
          <p:nvPr/>
        </p:nvPicPr>
        <p:blipFill>
          <a:blip r:embed="rId2"/>
          <a:stretch/>
        </p:blipFill>
        <p:spPr>
          <a:xfrm>
            <a:off x="228600" y="617400"/>
            <a:ext cx="928800" cy="86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Z:\Clip Art\Travel &amp; Leisure\Vacations (F - Q)\Passport 1.wmf"/>
          <p:cNvPicPr/>
          <p:nvPr/>
        </p:nvPicPr>
        <p:blipFill>
          <a:blip r:embed="rId3"/>
          <a:stretch/>
        </p:blipFill>
        <p:spPr>
          <a:xfrm rot="21444000">
            <a:off x="8226360" y="550440"/>
            <a:ext cx="622440" cy="8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Create a Grou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into a group of 4 people based on your preferred learning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who is A, B, C, and D based on years of teaching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– least hair  through to D - most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8AAE-2A7B-462D-B212-D5A9043310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Z:\Clip Art\Clothing &amp; Accessories\Glasses\Eyeglasses 16.wmf"/>
          <p:cNvPicPr/>
          <p:nvPr/>
        </p:nvPicPr>
        <p:blipFill>
          <a:blip r:embed="rId1"/>
          <a:stretch/>
        </p:blipFill>
        <p:spPr>
          <a:xfrm>
            <a:off x="1371600" y="2743200"/>
            <a:ext cx="12668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Z:\Clip Art\Cartoons\Make Your Own! (A - Ha)\Ear 6.wmf"/>
          <p:cNvPicPr/>
          <p:nvPr/>
        </p:nvPicPr>
        <p:blipFill>
          <a:blip r:embed="rId2"/>
          <a:stretch/>
        </p:blipFill>
        <p:spPr>
          <a:xfrm>
            <a:off x="6858000" y="2292480"/>
            <a:ext cx="581040" cy="1447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Z:\Clip Art\People\Cartoons (Ma - Ma) 1\Man Running 02.wmf"/>
          <p:cNvPicPr/>
          <p:nvPr/>
        </p:nvPicPr>
        <p:blipFill>
          <a:blip r:embed="rId3"/>
          <a:stretch/>
        </p:blipFill>
        <p:spPr>
          <a:xfrm>
            <a:off x="4038480" y="2666880"/>
            <a:ext cx="1168560" cy="12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6640" y="228600"/>
            <a:ext cx="63198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</a:t>
            </a:r>
            <a:br>
              <a:rPr sz="44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earch Article ~10 min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3187440"/>
            <a:ext cx="8381880" cy="3276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Highl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~ Feedback as Part of Formative Assessment (pp 1-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~ What the Research Shows (pp 3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~ Feedback Strategies and Content (pp 4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~ Feedback and Grading (pp 7-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432A-013D-4B25-8B7F-9F31CCA537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1685880" cy="188424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233280" y="237636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Susan Brookh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 Callout 4"/>
          <p:cNvSpPr/>
          <p:nvPr/>
        </p:nvSpPr>
        <p:spPr>
          <a:xfrm>
            <a:off x="4495680" y="1676520"/>
            <a:ext cx="4496040" cy="1511280"/>
          </a:xfrm>
          <a:prstGeom prst="cloudCallout">
            <a:avLst>
              <a:gd name="adj1" fmla="val -47884"/>
              <a:gd name="adj2" fmla="val 46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the characteristics of effective feedbac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are and Summarize ~15 min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what you read using a Round Robin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key characteristics of effective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wish to choose a product that aligns with your preferred learning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product with the larg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1632-85BC-4757-AE55-4F2CEBB002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Responding to 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9 students are responding to this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ber called A is 20% of a number called B. But A is 40% of C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know about B and 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8924-B7F4-4AC2-98F9-53A39785BB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1-08-10T13:25:23Z</dcterms:modified>
  <cp:revision>23</cp:revision>
  <dc:subject/>
  <dc:title>&lt;Title&gt;</dc:title>
</cp:coreProperties>
</file>